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44F7-1861-4304-B2BB-2446C8773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E0AE-1A45-4A89-9722-652AFC9A6A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850D-7757-4842-8F3E-AE5F0A7003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F5EE-AABA-4FF2-9E8D-46AA80B3E5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6E3E-72EB-4E75-884C-E319CDEF39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A009-1DC1-4EF1-BD19-B8243D6207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379-6A34-48CA-B9BD-A00FDD7F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6C1-29DA-46DA-92C3-8C628A63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CDD-4A5F-4BE9-AE8C-D3D9F7F8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E16-E6D9-4858-81E0-609A68EF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D28D-84EB-42F7-BBA0-F6946DAB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9952-BBC3-4E8E-91BA-B8852AB5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DBBC-F944-451B-B447-A6787240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8D3C-DF00-4E89-917D-9FD8CA14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3987-65D4-4F28-97E9-40CB93F8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AC1C-1B26-4C2D-AB2F-C38FE782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F33C-BF32-4356-BA70-0B07C90B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A47B-BCB7-450E-8A55-C72B1728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9F11-8AE5-41B3-80DB-4789C5D8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C788-8139-4EE5-8D27-69DC3069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0C76-5C9E-411E-BCDF-D55D6BC3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4544-65B7-42E0-845D-8FFDB93F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F971-E350-44BF-9BF1-D79650EA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713-D18C-4D25-AEDE-A1943E51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145-5C9C-43C5-9DCF-E79EE810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0D3A-F144-4BDC-8113-28D5921C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CA7-007B-4DAD-9C09-4DF3BA46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22F-E2E1-456C-8D5A-ADAB2466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277-27C6-4B5C-B911-4DF59D07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A85-5125-4B42-83F2-14F2C725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CB23-EA51-4DD2-8A29-9CF5257B4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F802-6A35-452C-80BE-AFC29C450C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AVING MONE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at the Sound of the B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. When you save money, is the interest usually LOW or HIG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8120" y="3208320"/>
            <a:ext cx="2971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177840"/>
            <a:ext cx="9144000" cy="39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2. What is arguably the most important financial rule that we will talk about in personal finance?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245124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60" y="7617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3. Name one Savings Instrumen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791320" cy="45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80" y="228240"/>
            <a:ext cx="914400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4. How much money in Savings Accounts is guaranteed by the US Governm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905120" y="2971800"/>
            <a:ext cx="4951440" cy="38098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"/>
          <p:cNvSpPr/>
          <p:nvPr/>
        </p:nvSpPr>
        <p:spPr>
          <a:xfrm>
            <a:off x="4711680" y="404964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hhhhh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4711680" y="3817800"/>
            <a:ext cx="1663560" cy="4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31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ll in the Blank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5. In a CD, the longer the ________, the higher the ______rate that is paid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666880" y="3276720"/>
            <a:ext cx="3449880" cy="334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1-22T15:05:14Z</dcterms:modified>
  <cp:revision>145</cp:revision>
  <dc:subject/>
  <dc:title>D/O: TO EXPLAIN AND IDENTIFY PROBLEMS OF ECONOMICS</dc:title>
</cp:coreProperties>
</file>